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A4D-D41C-494F-85B0-9ADEC099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54F-212F-494C-9C01-F5CFE58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F33-E419-4C11-9F86-905D70C3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06E-B703-497C-BA62-24BF0C28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F90-2CCA-4734-B026-88E40B2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EB7-917C-453F-B58D-F121EAA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FE8-B0BD-4F15-8B34-FBA3211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539-18F5-4FDB-90B1-57F7D126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EC1-B92E-4670-A4FD-3FE894D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C89-556A-4040-AD0F-AFC9619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A89-C27C-4961-90DE-30DFC77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A49-CBDE-4C7D-A61E-9647881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9624-5C8D-4822-B981-3D1461FF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all_smile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yummy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cool_sunglasses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index2.html" TargetMode="External"/><Relationship Id="rId2" Type="http://schemas.openxmlformats.org/officeDocument/2006/relationships/hyperlink" Target="http://www.allfree-clipart.com/Smiley/index3.html" TargetMode="External"/><Relationship Id="rId3" Type="http://schemas.openxmlformats.org/officeDocument/2006/relationships/hyperlink" Target="http://www.allfree-clipart.com/Smiley/index6.html" TargetMode="External"/><Relationship Id="rId4" Type="http://schemas.openxmlformats.org/officeDocument/2006/relationships/hyperlink" Target="http://www.allfree-clipart.com/Smiley/index3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10552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McKer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Rendered Image"/>
          <p:cNvPicPr/>
          <p:nvPr/>
        </p:nvPicPr>
        <p:blipFill>
          <a:blip r:embed="rId1"/>
          <a:stretch/>
        </p:blipFill>
        <p:spPr>
          <a:xfrm>
            <a:off x="533520" y="0"/>
            <a:ext cx="7848360" cy="5191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 had only two more days of pre-school, I have been counting down since I had ten days left. I was so excited I couldn’t wait to get out of school because I knew I was going to be going to a bigger school and meet new people. I would be just starting kindergarden! The whole class was playing games. Summer was only two days awa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ll_smiles_tn" descr="all_smiles.png">
            <a:hlinkClick r:id="rId1"/>
          </p:cNvPr>
          <p:cNvPicPr/>
          <p:nvPr/>
        </p:nvPicPr>
        <p:blipFill>
          <a:blip r:embed="rId2"/>
          <a:stretch/>
        </p:blipFill>
        <p:spPr>
          <a:xfrm rot="606000">
            <a:off x="4723920" y="3580920"/>
            <a:ext cx="2779920" cy="2895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3276720"/>
            <a:ext cx="2133720" cy="1447560"/>
          </a:xfrm>
          <a:prstGeom prst="cloudCallout">
            <a:avLst>
              <a:gd name="adj1" fmla="val 80805"/>
              <a:gd name="adj2" fmla="val 9101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Swimming, Ice cream, Vacati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The next day came really fast. Before I knew it we were back in the classroom. Today was our last day I was happy that it was almost summer but I was going to miss the friends that I made this whole year. My mom told me I was going to see them next year when we go to the same school again. Today in school was a little different, they had a ton more games for us to play with and it was just like a little party. They said that it was a good luck in kindergarden party.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hen the school was over and everyone went home I was so glad that I could play in the sun all day! My mom and dad were proud of me too. They said that I made it through my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year of school, but they told me I still have a lot more to go. My mom wanted to congratulate me so she took me out to get ice cream. It was really good. I always loved eating ice cream on a hot day just having something cold going down your thr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yummy_tn" descr="yummy.png">
            <a:hlinkClick r:id="rId1"/>
          </p:cNvPr>
          <p:cNvPicPr/>
          <p:nvPr/>
        </p:nvPicPr>
        <p:blipFill>
          <a:blip r:embed="rId2"/>
          <a:stretch/>
        </p:blipFill>
        <p:spPr>
          <a:xfrm rot="1007400">
            <a:off x="4202280" y="4486320"/>
            <a:ext cx="2016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4419720"/>
            <a:ext cx="2971800" cy="1523880"/>
          </a:xfrm>
          <a:prstGeom prst="wedgeEllipseCallout">
            <a:avLst>
              <a:gd name="adj1" fmla="val -56569"/>
              <a:gd name="adj2" fmla="val 64999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 had chocolate ice cream with sprinkles. It was delicio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The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month went by really fast! It was already almost 4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of July. We were packing up and getting ready to go to our cottage on a lake. It was really hot so my dad took me in the water. He also let me drive the boat while I was on his lap. We were all having fun in the sun! I learned a lot of things in pre-school like my Abc’s and 123’s. I am so glad my parents made me go to pre-school and I am really looking forward to kindergar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ol_sunglasses_tn" descr="cool_sunglasses.png">
            <a:hlinkClick r:id="rId1"/>
          </p:cNvPr>
          <p:cNvPicPr/>
          <p:nvPr/>
        </p:nvPicPr>
        <p:blipFill>
          <a:blip r:embed="rId2"/>
          <a:stretch/>
        </p:blipFill>
        <p:spPr>
          <a:xfrm rot="21106800">
            <a:off x="5028840" y="4343400"/>
            <a:ext cx="2433600" cy="226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181480"/>
            <a:ext cx="4648320" cy="1067040"/>
          </a:xfrm>
          <a:prstGeom prst="wedgeRoundRectCallout">
            <a:avLst>
              <a:gd name="adj1" fmla="val 62638"/>
              <a:gd name="adj2" fmla="val 15328"/>
              <a:gd name="adj3" fmla="val 16667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Hey mom look at what I can do. 1, 2, 3, 4, 5, 6, 7, 8, 9, 10!! I also can do ABCDEFGHIJKLMNOPQRSTUVW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ur vacation ended super fast! Before I knew it we were already going home and getting the things that I needed for school. I was going to miss spending time with my family but I couldn’t wait to go back to school! I get to see all my friends and I get to make new ones. School was where I always had a lot of fun, and if I never went to school I would of never met any of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love_smiley_tn" descr="love_smiley.png"/>
          <p:cNvPicPr/>
          <p:nvPr/>
        </p:nvPicPr>
        <p:blipFill>
          <a:blip r:embed="rId1"/>
          <a:stretch/>
        </p:blipFill>
        <p:spPr>
          <a:xfrm rot="873000">
            <a:off x="3352320" y="434304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4800600"/>
            <a:ext cx="3505320" cy="838080"/>
          </a:xfrm>
          <a:prstGeom prst="wedgeRectCallout">
            <a:avLst>
              <a:gd name="adj1" fmla="val -58967"/>
              <a:gd name="adj2" fmla="val 42800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Mom, do you think all my friends will remember me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 woke up to my mom saying “Hey Natalie, sweetie time to get up today is your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day of kindergarden.” I couldn’t believe it I was going into kindergarden, going to the bigger school! I know that summer is over but I am glad that I am going to school. The first day was awesome! I met my teacher Miss. Hood and I can already tell that this year is going to be a good one. I also saw all my friends from last ye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oofing_joking_tn" descr="goofing_joking.png"/>
          <p:cNvPicPr/>
          <p:nvPr/>
        </p:nvPicPr>
        <p:blipFill>
          <a:blip r:embed="rId1"/>
          <a:stretch/>
        </p:blipFill>
        <p:spPr>
          <a:xfrm rot="20776200">
            <a:off x="2895120" y="4571640"/>
            <a:ext cx="1938600" cy="2019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724280"/>
            <a:ext cx="2209680" cy="1600200"/>
          </a:xfrm>
          <a:prstGeom prst="cloudCallout">
            <a:avLst>
              <a:gd name="adj1" fmla="val 96194"/>
              <a:gd name="adj2" fmla="val -39583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 know that this year is going to be GRE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6666ff"/>
                </a:solidFill>
                <a:uFillTx/>
                <a:latin typeface="Arial"/>
              </a:rPr>
              <a:t>Cool_Sunglasses.png, 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free-clipart.com/Smiley/index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Goofing_joking.png,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free-clipart.com/Smiley/index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Yummy.png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, 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lfree-clipart.com/Smiley/index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Happy_Smiley.png,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llfree-clipart.com/Smiley/index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All_Smilies.png, March 13, 2012, http://www.allfree-clipart.com/Smiley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usic: Free Play Music,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 Tea For Two,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4/5/12, www.freeplaymusi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50:22Z</dcterms:created>
  <dc:creator>install</dc:creator>
  <dc:description/>
  <dc:language>en-US</dc:language>
  <cp:lastModifiedBy>install</cp:lastModifiedBy>
  <dcterms:modified xsi:type="dcterms:W3CDTF">2012-04-13T16:10:33Z</dcterms:modified>
  <cp:revision>12</cp:revision>
  <dc:subject/>
  <dc:title>Slide 1</dc:title>
</cp:coreProperties>
</file>